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852D-6704-4003-91A6-731A0C919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73536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8A77-1398-454B-8C84-5FBA5DFA3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528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2A2A-C9F0-467F-9C28-5BE6E8A52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060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52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060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52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2D57-F96F-4545-B670-E35DDA356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BBD9-95FE-4F0F-A3E8-4CCCF6A53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528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73536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528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060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7520" y="106632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060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7520" y="3735360"/>
            <a:ext cx="250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5A4B-5101-4684-B229-0759C76A0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F6EB-48E4-461F-8E5C-2298E52DA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BB71-5081-4CD8-985E-C9D086DFD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A801-58A1-4E9F-BD0E-CC72C24F4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8BA9-9BA4-4835-8770-B8BFEF867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5280" y="373536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EEAE-64A7-4C56-BE54-C70E8B8BD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5280" y="1066320"/>
            <a:ext cx="3791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735360"/>
            <a:ext cx="77691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1EC9-2D58-40EF-9E69-2967689E2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ContentPage"/>
          <p:cNvPicPr/>
          <p:nvPr/>
        </p:nvPicPr>
        <p:blipFill>
          <a:blip r:embed="rId2"/>
          <a:srcRect l="0" t="0" r="93319" b="0"/>
          <a:stretch/>
        </p:blipFill>
        <p:spPr>
          <a:xfrm>
            <a:off x="-1440" y="-1440"/>
            <a:ext cx="61092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tfx-corp-clr-150"/>
          <p:cNvPicPr/>
          <p:nvPr/>
        </p:nvPicPr>
        <p:blipFill>
          <a:blip r:embed="rId3"/>
          <a:stretch/>
        </p:blipFill>
        <p:spPr>
          <a:xfrm>
            <a:off x="7543800" y="6400800"/>
            <a:ext cx="1219320" cy="1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b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7452-E8BA-4B52-A342-223000D8AD76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T_Cover"/>
          <p:cNvPicPr/>
          <p:nvPr/>
        </p:nvPicPr>
        <p:blipFill>
          <a:blip r:embed="rId2"/>
          <a:srcRect l="0" t="0" r="0" b="10021"/>
          <a:stretch/>
        </p:blipFill>
        <p:spPr>
          <a:xfrm>
            <a:off x="0" y="0"/>
            <a:ext cx="9145440" cy="6172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tfx-corp-clr-150"/>
          <p:cNvPicPr/>
          <p:nvPr/>
        </p:nvPicPr>
        <p:blipFill>
          <a:blip r:embed="rId3"/>
          <a:stretch/>
        </p:blipFill>
        <p:spPr>
          <a:xfrm>
            <a:off x="7543800" y="6400800"/>
            <a:ext cx="1219320" cy="184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040" y="10663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b79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3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We like the dynamics of the water – our competitor`s product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C85E-B40E-4CAA-9EB6-FE2D682F9554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203640" y="765000"/>
            <a:ext cx="5294160" cy="274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611280" y="1143000"/>
            <a:ext cx="2340000" cy="3235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JRange\Pictures\6713833-spritzendes-wasser.jpg"/>
          <p:cNvPicPr/>
          <p:nvPr/>
        </p:nvPicPr>
        <p:blipFill>
          <a:blip r:embed="rId3"/>
          <a:stretch/>
        </p:blipFill>
        <p:spPr>
          <a:xfrm>
            <a:off x="3686040" y="3638520"/>
            <a:ext cx="1695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The drop is a no-go, looks boring – no dynamics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3AF0-6101-4A16-A0F3-E7BDDECCC939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JRange\Pictures\GPSMirage_BG_2012-1279 (2).jpg"/>
          <p:cNvPicPr/>
          <p:nvPr/>
        </p:nvPicPr>
        <p:blipFill>
          <a:blip r:embed="rId1"/>
          <a:stretch/>
        </p:blipFill>
        <p:spPr>
          <a:xfrm>
            <a:off x="684360" y="1268280"/>
            <a:ext cx="650376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Down Arrow 4"/>
          <p:cNvSpPr/>
          <p:nvPr/>
        </p:nvSpPr>
        <p:spPr>
          <a:xfrm>
            <a:off x="5580000" y="1052640"/>
            <a:ext cx="144360" cy="1439640"/>
          </a:xfrm>
          <a:prstGeom prst="downArrow">
            <a:avLst>
              <a:gd name="adj1" fmla="val 50000"/>
              <a:gd name="adj2" fmla="val 49863"/>
            </a:avLst>
          </a:prstGeom>
          <a:solidFill>
            <a:srgbClr val="bfce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Our logos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A4AD-E5BA-4C0D-A568-802BF80E8382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668840" y="1484280"/>
            <a:ext cx="393372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3962160" cy="933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3200400" y="3224160"/>
            <a:ext cx="27432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040" y="10666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6B26-CCCA-42F9-AB08-982E5BC0B58A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3167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040" y="10666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B1A5-5D98-48D0-9172-F98A1FDE6FB2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681200" y="1019160"/>
            <a:ext cx="5781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9"/>
                </a:solidFill>
                <a:latin typeface="Arial"/>
              </a:rPr>
              <a:t>Examples – boring </a:t>
            </a:r>
            <a:r>
              <a:rPr b="1" lang="en-US" sz="2400" spc="-1" strike="noStrike">
                <a:solidFill>
                  <a:srgbClr val="003b79"/>
                </a:solidFill>
                <a:latin typeface="Wingdings"/>
                <a:ea typeface="Wingdings"/>
              </a:rPr>
              <a:t></a:t>
            </a:r>
            <a:endParaRPr b="1" lang="en-US" sz="2400" spc="-1" strike="noStrike">
              <a:solidFill>
                <a:srgbClr val="003b7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040" y="10666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1F3D-821F-4CDF-A122-D7EE132F86E4}" type="slidenum">
              <a:rPr b="1" lang="en-US" sz="1000" spc="-1" strike="noStrike">
                <a:solidFill>
                  <a:srgbClr val="003b7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614600" y="1019160"/>
            <a:ext cx="59148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7:13:10Z</dcterms:created>
  <dc:creator>Range, Jan</dc:creator>
  <dc:description/>
  <dc:language>en-US</dc:language>
  <cp:lastModifiedBy>Range, Jan</cp:lastModifiedBy>
  <dcterms:modified xsi:type="dcterms:W3CDTF">2013-05-20T07:31:40Z</dcterms:modified>
  <cp:revision>2</cp:revision>
  <dc:subject/>
  <dc:title>PowerPoint Presentation</dc:title>
</cp:coreProperties>
</file>